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1AF9-EEAA-47C8-A42D-98F1AA65C80D}"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73E7-11ED-4907-BE79-B71AF8784201}"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4C8EF-830C-40A1-97B9-AF5F84CF2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35DF7-EA29-4E5E-B818-545D7088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94F16-267A-48CB-AD6F-2AF006D90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47175-5405-4A3F-B1C8-575993016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FC870-5922-4A0D-8643-9D5DEC9AE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5717E-5366-439B-A594-545D3CCC4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2D23D-03DE-4376-AB03-F56EABF8B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03B30-8A90-4F3B-8BFA-51835FB01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8DDF-9B30-42BF-AA7B-AF71819A6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9C12B-F5D3-4C41-9CCC-F217AF499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BBA10-654F-4AFC-AFD2-C1ABA9C4F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F005E-BE5D-4833-809A-EABFAD2E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2E22-450C-48FF-95AB-BDBE3B471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0612C-78E4-4BA1-81E9-718F27553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CFDDE-4B51-43CE-8A1C-BE9213B45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B4058-DD7C-4AD7-8781-C6472778F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B2CC5-E049-46F2-9029-D407D24DC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C3B3B-2F13-4562-95EE-2836FE674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0E280-4E8C-489F-A437-85003E10B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7934E-40F1-4624-A397-3D380869A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3F8F3-C1C0-41B8-ADD7-009CE274F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282FA-4AF7-4CFE-9920-543D23EFF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2367-0B33-49BE-8EDE-1388B945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AA613-AEF3-438A-8E1D-1AF2BE334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B47D0-8BD2-445F-88C3-958E319B3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A3976-979B-4905-8C51-8C69196DD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31D7B-FD16-41CE-9593-1449FD672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4BA42-9F48-4110-AC23-C62FD6155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403D3-D80A-4B7D-9A8E-39B5F7A49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564514-F3D3-4F35-A842-6198C127C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237E7-CCBF-482F-9591-EF55BB27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D939-012E-4C23-B9F4-CF32B99B3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665A-63FA-4E98-8226-169C9740D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43B2A-84A0-4395-A40F-5EE1B1410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2BE2-7110-4A21-AA5B-78AAEC3B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7365-B0E5-4752-AD0B-7A7B3ED9E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4BD6-6219-4E58-8209-049B36A7C816}"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5257-2101-4B61-A855-29EA24194D8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7C6D-124D-4427-A757-5B6748CBFE1F}"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627280" y="3429000"/>
            <a:ext cx="144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3 Elipse"/>
          <p:cNvSpPr/>
          <p:nvPr/>
        </p:nvSpPr>
        <p:spPr>
          <a:xfrm>
            <a:off x="2340000" y="4365720"/>
            <a:ext cx="503280" cy="272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I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4"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2" descr=""/>
          <p:cNvPicPr/>
          <p:nvPr/>
        </p:nvPicPr>
        <p:blipFill>
          <a:blip r:embed="rId1"/>
          <a:stretch/>
        </p:blipFill>
        <p:spPr>
          <a:xfrm>
            <a:off x="324000" y="268200"/>
            <a:ext cx="8280360" cy="6208920"/>
          </a:xfrm>
          <a:prstGeom prst="rect">
            <a:avLst/>
          </a:prstGeom>
          <a:ln w="0">
            <a:noFill/>
          </a:ln>
        </p:spPr>
      </p:pic>
      <p:sp>
        <p:nvSpPr>
          <p:cNvPr id="226"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
        <p:nvSpPr>
          <p:cNvPr id="227"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a:t>
            </a:r>
            <a:endParaRPr b="0" lang="en-US" sz="1800" spc="-1" strike="noStrike">
              <a:solidFill>
                <a:srgbClr val="000000"/>
              </a:solidFill>
              <a:latin typeface="Calibri"/>
            </a:endParaRPr>
          </a:p>
        </p:txBody>
      </p:sp>
      <p:sp>
        <p:nvSpPr>
          <p:cNvPr id="228"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II</a:t>
            </a:r>
            <a:endParaRPr b="0" lang="en-US" sz="1800" spc="-1" strike="noStrike">
              <a:solidFill>
                <a:srgbClr val="000000"/>
              </a:solidFill>
              <a:latin typeface="Calibri"/>
            </a:endParaRPr>
          </a:p>
        </p:txBody>
      </p:sp>
      <p:sp>
        <p:nvSpPr>
          <p:cNvPr id="229"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V</a:t>
            </a:r>
            <a:endParaRPr b="0" lang="en-US" sz="1800" spc="-1" strike="noStrike">
              <a:solidFill>
                <a:srgbClr val="000000"/>
              </a:solidFill>
              <a:latin typeface="Calibri"/>
            </a:endParaRPr>
          </a:p>
        </p:txBody>
      </p:sp>
      <p:sp>
        <p:nvSpPr>
          <p:cNvPr id="230"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ea typeface="Arial"/>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n 2" descr=""/>
          <p:cNvPicPr/>
          <p:nvPr/>
        </p:nvPicPr>
        <p:blipFill>
          <a:blip r:embed="rId1"/>
          <a:stretch/>
        </p:blipFill>
        <p:spPr>
          <a:xfrm>
            <a:off x="250920" y="2060640"/>
            <a:ext cx="1730160" cy="2208240"/>
          </a:xfrm>
          <a:prstGeom prst="rect">
            <a:avLst/>
          </a:prstGeom>
          <a:ln w="0">
            <a:noFill/>
          </a:ln>
        </p:spPr>
      </p:pic>
      <p:sp>
        <p:nvSpPr>
          <p:cNvPr id="233"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Fanny Zirulnik</cp:lastModifiedBy>
  <dcterms:modified xsi:type="dcterms:W3CDTF">2017-08-16T21:24:29Z</dcterms:modified>
  <cp:revision>95</cp:revision>
  <dc:subject/>
  <dc:title>Presentación de PowerPoint</dc:title>
</cp:coreProperties>
</file>